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933-61BE-4247-86D9-E566E355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5BA-53F4-4485-BF10-B53F3B6A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C2A-7A46-423B-AF12-2254105B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4EB-3101-48AB-993A-C05FBED7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0B8-8BC6-40F3-81A0-D77F12C6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6EF-446C-44D2-8E02-9945519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34F-DE7B-48F5-8975-AE6A875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3E2-C92D-434A-980A-0B76162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97D-54C5-4212-941C-B9F2FE25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340-679A-4A1F-AEA8-D791BE5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A40-6762-417F-AF73-55785FB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F0C-CECA-43F6-A207-A2DBD95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FD0AF-4952-4954-AF1C-68E8D0551E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914400"/>
            <a:ext cx="7476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Lyndon B. Johns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Script MT Bold"/>
              </a:rPr>
              <a:t>The Great Society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40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2286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Job Cor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57200"/>
            <a:ext cx="7010280" cy="1434600"/>
          </a:xfrm>
          <a:prstGeom prst="rect">
            <a:avLst/>
          </a:prstGeom>
          <a:noFill/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Help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32446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odel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304920"/>
            <a:ext cx="4876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0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bway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Food St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0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60" y="2925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508120" cy="312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4114800" cy="2579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5520" y="259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Head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048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ubway"/>
              </a:rPr>
              <a:t>Elementary and Secondary Educa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ubway"/>
              </a:rPr>
              <a:t>Higher Educa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0880"/>
            <a:ext cx="4191120" cy="2104920"/>
          </a:xfrm>
          <a:prstGeom prst="rect">
            <a:avLst/>
          </a:prstGeom>
          <a:noFill/>
          <a:ln w="22320">
            <a:solidFill>
              <a:srgbClr val="00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Help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657600" cy="258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3842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19360" y="14349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16320" y="2073240"/>
            <a:ext cx="4306680" cy="2706840"/>
            <a:chOff x="2416320" y="2073240"/>
            <a:chExt cx="4306680" cy="2706840"/>
          </a:xfrm>
        </p:grpSpPr>
        <p:sp>
          <p:nvSpPr>
            <p:cNvPr id="81" name=""/>
            <p:cNvSpPr/>
            <p:nvPr/>
          </p:nvSpPr>
          <p:spPr>
            <a:xfrm>
              <a:off x="2416320" y="2073240"/>
              <a:ext cx="430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16320" y="2073240"/>
              <a:ext cx="4306680" cy="27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505320" y="5181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  <a:ea typeface="Arial"/>
              </a:rPr>
              <a:t>National Endowment for the Arts and Huma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370320" cy="396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657600" cy="250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3049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Corporation for Public Broad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2362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edic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330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ubway"/>
              </a:rPr>
              <a:t>Medic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8600"/>
            <a:ext cx="8076960" cy="1434600"/>
          </a:xfrm>
          <a:prstGeom prst="rect">
            <a:avLst/>
          </a:prstGeom>
          <a:noFill/>
          <a:ln w="2232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Great Society Plans to Improve Health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2857320" cy="250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812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ubway"/>
              </a:rPr>
              <a:t>Clean Water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1295280"/>
            <a:ext cx="228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ubway"/>
              </a:rPr>
              <a:t>Truth in Labeling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4190760" cy="1434600"/>
          </a:xfrm>
          <a:prstGeom prst="rect">
            <a:avLst/>
          </a:prstGeom>
          <a:noFill/>
          <a:ln w="22320">
            <a:solidFill>
              <a:srgbClr val="66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OTHER Great Society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343400" cy="22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26404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97180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lawed discrimination in voting and in public places (movie theaters, hotel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ts discrimination by employers based on “race, color, religion, sex or national orig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28800" y="609480"/>
            <a:ext cx="5591160" cy="1752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5000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atin typeface="Arial Black"/>
              </a:rPr>
              <a:t>Civil Rights 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5000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76520" y="3733920"/>
            <a:ext cx="612432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Voting Rights 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8088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spective voters were required to pass a literacy test and answer questions about the Constitution, a practice that prohibited many blacks from registering to v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lma, Alabama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00" y="304812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981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ed literacy tests for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 federal examiners to seven Southern states to register black vot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4382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Subway"/>
              </a:rPr>
              <a:t>How do these programs follow the legacy of F. D. Roosevelt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61722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ost-War (WWII) Years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the Suburb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029200" cy="422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10080" y="4378320"/>
            <a:ext cx="2971800" cy="249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62840" y="92160"/>
            <a:ext cx="29811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9624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8840" y="8222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million Americans still lived in poverty in the early 196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eople were not part of the new prosperous American identity – they were “the invisible po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5151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FK’s “War on Pover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70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240" y="228600"/>
            <a:ext cx="447372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37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nnedy assassinated on November 22, 19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ce-President Lyndon B. Johnson takes the Oath of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BJ describes “the Great Society” in 19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181480" cy="45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3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 will begin to set our course toward the Great Socie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programs seek to ensure “equality of opportunity” for 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07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poverty by helping poor with jobs and improv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00200" y="6858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646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Goal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8769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racial in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733920"/>
            <a:ext cx="55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health care to poor/el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20968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ubway"/>
              </a:rPr>
              <a:t>In your opinion, which—if any—of these programs are worth the c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8:53:41Z</dcterms:created>
  <dc:creator>Fred Peronto</dc:creator>
  <dc:description/>
  <dc:language>en-US</dc:language>
  <cp:lastModifiedBy>Dominic Lambek</cp:lastModifiedBy>
  <dcterms:modified xsi:type="dcterms:W3CDTF">2010-05-13T03:35:03Z</dcterms:modified>
  <cp:revision>11</cp:revision>
  <dc:subject/>
  <dc:title>PowerPoint Presentation</dc:title>
</cp:coreProperties>
</file>